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D58-AFD2-4BBE-B9A8-2707B75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488-3CF8-45EC-959A-710FF63D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7D6-78C4-4D57-82BC-469AAA7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E02-A88E-436D-873B-45CD223F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6BF-72EF-4C19-9DA4-827B9A1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964-6579-4EF7-A714-63C8D69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B18-5B52-4ABD-961F-EA29637F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2D8-6D19-4E0F-BD9D-262E309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A82-4772-470E-A174-64389891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DA9-B8E1-450B-9288-BE1013BA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0D5-16C6-41F6-AFCF-27D8F79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12C-5B50-4B63-BE85-8130C975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533-5DC7-4CAF-B7F1-08B303BE40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KYE Storage Facilitie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Ⅰ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Water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How much water are we using per da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shower- 3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bath- 8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ashing Machine- 10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ashing Dishes-2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rinking Water- about 2.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lushing Toilet- 1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The amount of water we are going to suppl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person uses about 212L of water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family of 2 adults and 2 children will use 212L*3(2 children use 212L)=63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636L-100L(washing machine)-240L(Bath)-40L(2 times of washing dishes)= 26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50 families will use 260L*50=13000L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3000L*14=182000L for two week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14840" cy="4210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483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hape- Cylin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Not fragile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 cylinder’s TSA calculation metho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= πr^2 + 2πr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= πr(r+2h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359600" y="324648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π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SA of the 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457520" cy="3952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Final Decis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7280" y="1557360"/>
            <a:ext cx="4259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eight- 6.5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dius-3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Volume- about 182m^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st of cylinder- $25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st of cement floor-$320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otal cost- $57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Food(=grain)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How much food do we have to consume a da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n adult- eats about 0.25kg of rice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5:28:49Z</dcterms:created>
  <dc:creator>LGE</dc:creator>
  <dc:description/>
  <dc:language>en-US</dc:language>
  <cp:lastModifiedBy>LGE</cp:lastModifiedBy>
  <dcterms:modified xsi:type="dcterms:W3CDTF">2008-11-29T15:52:20Z</dcterms:modified>
  <cp:revision>4</cp:revision>
  <dc:subject/>
  <dc:title>SKYE Storage Facilities</dc:title>
</cp:coreProperties>
</file>